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6E1-242D-4793-A7FA-E02EE33C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017-0D27-4CA3-96B7-2D90823F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658-8759-4967-BFC8-1FC078CC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09F-5FC5-4B95-B2E2-687FD720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BB7-AC74-4E9D-ABB7-E780C973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643-17AE-47CB-8401-C865453A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DA2-41F8-49BA-8210-E81198B1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73B-BA5D-4201-A068-CC589005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5FF-BD09-427B-BA47-98ADC651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DCB-5F5B-4F65-ADDC-FC21D414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CB1-DB8B-41F6-9023-9C4E7F66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629-5B19-455D-8764-1361BEEE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0EF7-027D-410F-93CC-627298F66E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9280" y="339840"/>
            <a:ext cx="885060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9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10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142920" y="106200"/>
            <a:ext cx="2017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5" name="Стрелка вниз 1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5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2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556000" y="136440"/>
            <a:ext cx="53290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1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2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1253160" y="320760"/>
            <a:ext cx="67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МЕДИА -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4160" y="1531800"/>
            <a:ext cx="6419520" cy="32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42920" y="106200"/>
            <a:ext cx="2000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15408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Савина Дарья Александровна</cp:lastModifiedBy>
  <dcterms:modified xsi:type="dcterms:W3CDTF">2023-01-24T15:29:37Z</dcterms:modified>
  <cp:revision>126</cp:revision>
  <dc:subject/>
  <dc:title>Слайд 1</dc:title>
</cp:coreProperties>
</file>